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60B3-19A9-4F3B-9F1E-EC15FA9DA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79CE-9C9E-43D3-964B-BB8EED4E4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BBC-478E-43F8-A809-50E6C67E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DBA-562F-4DC8-923A-462CC89E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F74-411A-43D3-A51B-C393EC6C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462-64A7-4B17-A347-BB78843E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48C-FFAB-4D29-9610-40146BA4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AE1-EABB-472C-B265-7E0D8D16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45B7-F31B-48F7-B272-A0ABCB5C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4FF-D3D9-4370-957E-5E43F934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8CD-451B-4F87-8782-51364563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7D9-D282-4F32-B2BE-7884390B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AEB-A806-4049-A956-D38496E0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321-954A-4B8E-949E-332D52C7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77C2-8224-4EF5-9B9A-E78199910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39640" y="2281320"/>
            <a:ext cx="1511280" cy="1434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Coordination Mechanis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HC/RC; National Govt; UNHCR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Humanitarian and Development Ac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124000" y="1989000"/>
            <a:ext cx="1295640" cy="10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Exit Strate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Policy and framework for local pla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124000" y="3213000"/>
            <a:ext cx="129564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National Level Agre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MoUs, Legal commit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580000" y="117360"/>
            <a:ext cx="216072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Camp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5435640" y="1484280"/>
            <a:ext cx="2376360" cy="132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Coordination Mechanis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Camp Management &amp; Coordination Actors; National &amp; Local Govt; Humanitarian and Development Actors; Refuge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506920" y="2951280"/>
            <a:ext cx="2305080" cy="1081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Regional/Local Action Pl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Components of national strate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100" spc="-1" strike="noStrike">
                <a:solidFill>
                  <a:srgbClr val="000000"/>
                </a:solidFill>
                <a:latin typeface="Arial"/>
              </a:rPr>
              <a:t>Division of activities and partn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490920" y="692280"/>
            <a:ext cx="172872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300" spc="-1" strike="noStrike">
                <a:solidFill>
                  <a:srgbClr val="000000"/>
                </a:solidFill>
                <a:latin typeface="Arial"/>
              </a:rPr>
              <a:t>Situational Analys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8604360" y="378000"/>
            <a:ext cx="395280" cy="5832360"/>
          </a:xfrm>
          <a:prstGeom prst="downArrow">
            <a:avLst>
              <a:gd name="adj1" fmla="val 50000"/>
              <a:gd name="adj2" fmla="val 368875"/>
            </a:avLst>
          </a:prstGeom>
          <a:solidFill>
            <a:srgbClr val="ff82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Information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2556000" y="4221000"/>
            <a:ext cx="2016000" cy="1512720"/>
            <a:chOff x="2556000" y="4221000"/>
            <a:chExt cx="2016000" cy="1512720"/>
          </a:xfrm>
        </p:grpSpPr>
        <p:sp>
          <p:nvSpPr>
            <p:cNvPr id="57" name="Rectangle 11"/>
            <p:cNvSpPr/>
            <p:nvPr/>
          </p:nvSpPr>
          <p:spPr>
            <a:xfrm>
              <a:off x="2649960" y="5384880"/>
              <a:ext cx="1922040" cy="348840"/>
            </a:xfrm>
            <a:prstGeom prst="rect">
              <a:avLst/>
            </a:prstGeom>
            <a:solidFill>
              <a:srgbClr val="ff8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2"/>
            <p:cNvSpPr/>
            <p:nvPr/>
          </p:nvSpPr>
          <p:spPr>
            <a:xfrm>
              <a:off x="2556000" y="4221000"/>
              <a:ext cx="311400" cy="1512720"/>
            </a:xfrm>
            <a:prstGeom prst="upArrow">
              <a:avLst>
                <a:gd name="adj1" fmla="val 50000"/>
                <a:gd name="adj2" fmla="val 121445"/>
              </a:avLst>
            </a:prstGeom>
            <a:solidFill>
              <a:srgbClr val="ff8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13"/>
          <p:cNvSpPr/>
          <p:nvPr/>
        </p:nvSpPr>
        <p:spPr>
          <a:xfrm>
            <a:off x="2868120" y="5373720"/>
            <a:ext cx="155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000" spc="-1" strike="noStrike">
                <a:solidFill>
                  <a:srgbClr val="000000"/>
                </a:solidFill>
                <a:latin typeface="Arial"/>
              </a:rPr>
              <a:t>Feedback mechanism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fr-CH" sz="1000" spc="-1" strike="noStrike">
                <a:solidFill>
                  <a:srgbClr val="000000"/>
                </a:solidFill>
                <a:latin typeface="Arial"/>
              </a:rPr>
              <a:t>the National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0" y="-27000"/>
            <a:ext cx="9180360" cy="685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 rot="10800000">
            <a:off x="108000" y="161640"/>
            <a:ext cx="395280" cy="5832360"/>
          </a:xfrm>
          <a:prstGeom prst="downArrow">
            <a:avLst>
              <a:gd name="adj1" fmla="val 50000"/>
              <a:gd name="adj2" fmla="val 368875"/>
            </a:avLst>
          </a:prstGeom>
          <a:solidFill>
            <a:srgbClr val="ff82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Information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3635280" y="2709720"/>
            <a:ext cx="1656000" cy="576360"/>
          </a:xfrm>
          <a:custGeom>
            <a:avLst/>
            <a:gdLst>
              <a:gd name="textAreaLeft" fmla="*/ 258480 w 1656000"/>
              <a:gd name="textAreaRight" fmla="*/ 1449000 w 16560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82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059280" y="763560"/>
            <a:ext cx="360360" cy="217440"/>
          </a:xfrm>
          <a:prstGeom prst="leftArrow">
            <a:avLst>
              <a:gd name="adj1" fmla="val 50000"/>
              <a:gd name="adj2" fmla="val 41432"/>
            </a:avLst>
          </a:prstGeom>
          <a:solidFill>
            <a:srgbClr val="ff82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 flipH="1">
            <a:off x="6602040" y="4030560"/>
            <a:ext cx="111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4643280" y="4292640"/>
            <a:ext cx="1081080" cy="603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7392960" y="4292640"/>
            <a:ext cx="1139760" cy="619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&amp; Environ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5173560" y="4896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4668840" y="5256360"/>
            <a:ext cx="936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Refuge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4668840" y="5688000"/>
            <a:ext cx="936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4668840" y="6119640"/>
            <a:ext cx="936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Hos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>
            <a:off x="7248600" y="5305320"/>
            <a:ext cx="1295280" cy="1148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ndover assets and fac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frastructure and environmental rehabilit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6"/>
          <p:cNvSpPr/>
          <p:nvPr/>
        </p:nvSpPr>
        <p:spPr>
          <a:xfrm>
            <a:off x="6972480" y="5300640"/>
            <a:ext cx="287280" cy="1179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0600 h 1179360"/>
              <a:gd name="textAreaBottom" fmla="*/ 1148760 h 117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7"/>
          <p:cNvSpPr/>
          <p:nvPr/>
        </p:nvSpPr>
        <p:spPr>
          <a:xfrm>
            <a:off x="5580000" y="5229360"/>
            <a:ext cx="287280" cy="1224000"/>
          </a:xfrm>
          <a:custGeom>
            <a:avLst/>
            <a:gdLst>
              <a:gd name="textAreaLeft" fmla="*/ 0 w 287280"/>
              <a:gd name="textAreaRight" fmla="*/ 10368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5916600" y="5627520"/>
            <a:ext cx="934920" cy="4334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</a:rPr>
              <a:t>Sec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>
            <a:off x="5724360" y="4653000"/>
            <a:ext cx="1679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0"/>
          <p:cNvSpPr/>
          <p:nvPr/>
        </p:nvSpPr>
        <p:spPr>
          <a:xfrm rot="10800000">
            <a:off x="5292360" y="763560"/>
            <a:ext cx="360360" cy="217440"/>
          </a:xfrm>
          <a:prstGeom prst="leftArrow">
            <a:avLst>
              <a:gd name="adj1" fmla="val 50000"/>
              <a:gd name="adj2" fmla="val 41432"/>
            </a:avLst>
          </a:prstGeom>
          <a:solidFill>
            <a:srgbClr val="ff82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7885080" y="494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2"/>
          <p:cNvSpPr/>
          <p:nvPr/>
        </p:nvSpPr>
        <p:spPr>
          <a:xfrm>
            <a:off x="971640" y="115920"/>
            <a:ext cx="216036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Nationa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0:32:50Z</dcterms:created>
  <dc:creator>UNHCR</dc:creator>
  <dc:description/>
  <dc:language>en-US</dc:language>
  <cp:lastModifiedBy>Peter</cp:lastModifiedBy>
  <dcterms:modified xsi:type="dcterms:W3CDTF">2011-09-28T19:03:34Z</dcterms:modified>
  <cp:revision>9</cp:revision>
  <dc:subject/>
  <dc:title>Slide 1</dc:title>
</cp:coreProperties>
</file>