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2232-7113-41B9-8712-640490F9E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CEDF-E8A1-4E7D-999A-B9060DBB4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555-3F83-4717-97AF-D61E39B9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E265-060C-45A1-8891-33EF7F82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EFC-7AE2-41A1-A49A-A0B7C0C9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CBA-53C2-4A0C-99C1-9F415DAF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F8C-9B00-4030-8917-72E07A3F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5BA-385A-4F5A-A860-61147581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AAF-2D1E-40A5-A88B-C06636AE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96F-12A6-4DDF-98C9-1A672689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3E1-BDA7-4E88-AAD9-8D2FF72C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38E-6995-4F3A-852F-3144C320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BCA1-6B4E-4EDF-ABBA-FD91334E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54F-82D7-4DFD-89A8-ACFA0DB5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4B58-8E41-4585-AA6E-DCF792D52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"/>
          <p:cNvSpPr/>
          <p:nvPr/>
        </p:nvSpPr>
        <p:spPr>
          <a:xfrm>
            <a:off x="5364000" y="1341360"/>
            <a:ext cx="3529080" cy="33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>
            <a:off x="826920" y="404640"/>
            <a:ext cx="352908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547640" y="4724280"/>
            <a:ext cx="273708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libri"/>
              </a:rPr>
              <a:t>Exit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Based on national level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nforms the actio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83280" y="5300640"/>
            <a:ext cx="244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547640" y="549360"/>
            <a:ext cx="2376720" cy="29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tional Leve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tuation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ce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ol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con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i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opulation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227640" y="1484280"/>
            <a:ext cx="237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mp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tuation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508720" y="2565360"/>
            <a:ext cx="23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372360" y="2276640"/>
            <a:ext cx="1728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ulation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ugees’ int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n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156360" y="5353200"/>
            <a:ext cx="237636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mp Closure Ac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s the Exit 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 situation analysis at the camp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492360" y="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Situation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4356000" y="1916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H="1">
            <a:off x="4356000" y="1844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4284720" y="5732640"/>
            <a:ext cx="179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7164360" y="465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 rot="16200000">
            <a:off x="-478080" y="163836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 rot="16200000">
            <a:off x="-924120" y="51012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Strategy and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255600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7:40:34Z</dcterms:created>
  <dc:creator>Ryank</dc:creator>
  <dc:description/>
  <dc:language>en-US</dc:language>
  <cp:lastModifiedBy>Andrew Cusack</cp:lastModifiedBy>
  <dcterms:modified xsi:type="dcterms:W3CDTF">2012-03-15T16:16:26Z</dcterms:modified>
  <cp:revision>32</cp:revision>
  <dc:subject/>
  <dc:title>Slide 1</dc:title>
</cp:coreProperties>
</file>