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B64FD-8725-49F9-B2B2-3662D63EDD5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B4179-399B-45CB-951B-E27FEE2355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BF477-96A8-4E3E-B336-34D4D6D4F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t forget pre-meeting tasks - send out the agenda, ground rules of meetings, hold bi-lateral talk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425A9-894A-46C1-BFCC-5C8BB253B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D6F06-F2B3-46FF-9542-212DC218F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85485-3F75-4C5B-9D54-485863CA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74E46-FC14-427F-9E62-C8EF2B593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EA3DA-CD59-4A9F-99FC-7A31CC1D0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de-DE"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01BD5-E530-4C6F-AAF1-124F6989A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many recognize the importance of coordination in a camp response, effective coordination can be challenging to achieve on the ground. </a:t>
            </a:r>
            <a:r>
              <a:rPr b="0" lang="en-US" sz="1200" spc="-1" strike="noStrike">
                <a:solidFill>
                  <a:srgbClr val="000000"/>
                </a:solidFill>
                <a:latin typeface="Calibri"/>
              </a:rPr>
              <a:t>Coordination is a core responsib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is the why, the process is the h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ion happens at different levels between different stakehol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oordination </a:t>
            </a:r>
            <a:r>
              <a:rPr b="0" i="1" lang="en-GB" sz="1200" spc="-1" strike="noStrike">
                <a:solidFill>
                  <a:srgbClr val="000000"/>
                </a:solidFill>
                <a:latin typeface="Calibri"/>
              </a:rPr>
              <a:t>inter-camp</a:t>
            </a:r>
            <a:r>
              <a:rPr b="0" lang="en-US" sz="1200" spc="-1" strike="noStrike">
                <a:solidFill>
                  <a:srgbClr val="000000"/>
                </a:solidFill>
                <a:latin typeface="Calibri"/>
              </a:rPr>
              <a:t>  (between) entails the coordination of roles and responsibilities directly relating to the development and support of national/regional plans relating to the establishment and management of camps (incorporating exit and solution strategie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amp coordination also includes the coordination of roles and responsibilities in the overall refugee camp response. </a:t>
            </a:r>
            <a:r>
              <a:rPr b="0" lang="en-GB" sz="1200" spc="-1" strike="noStrike">
                <a:solidFill>
                  <a:srgbClr val="000000"/>
                </a:solidFill>
                <a:latin typeface="Calibri"/>
              </a:rPr>
              <a:t>The agency responsible for inter-camp coordination collects and analyzes data from different camps/collective centres with a view to monitoring and reporting on standards of services and assistance, in and between camps. The coordination function (usually UNHCR) is responsible for aggregating and disseminating this information to all partners – including camp managers, other agencies active in the camp, government authorities and other UN agencies.  They also advocate  for equality of standards across camps and for standards of assistance to allow for full and equal access to basic human rights for camp resident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oordination </a:t>
            </a:r>
            <a:r>
              <a:rPr b="0" i="1" lang="en-GB" sz="1200" spc="-1" strike="noStrike">
                <a:solidFill>
                  <a:srgbClr val="000000"/>
                </a:solidFill>
                <a:latin typeface="Calibri"/>
              </a:rPr>
              <a:t>intra-camp </a:t>
            </a:r>
            <a:r>
              <a:rPr b="0" lang="en-GB" sz="1200" spc="-1" strike="noStrike">
                <a:solidFill>
                  <a:srgbClr val="000000"/>
                </a:solidFill>
                <a:latin typeface="Calibri"/>
              </a:rPr>
              <a:t> (within) requires a process of coordinating and facilitating for all those involved – including service providers, on-site government actors, the refugees and host communities. The agency responsible for camp management may facilitate initial agreements, monitor service delivery and advocate for any adaptation required due to changing needs on the ground; it also works closely with the coordination function to ensure that relevant, timely and accurate data is collected at the camp level and is made available to support refugee operations.  Camp management works to ensure that all stakeholders commit to shared systems, coordination tools and mechanis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27F4F-0FA4-452E-BE69-B08881548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 Sharing </a:t>
            </a:r>
            <a:r>
              <a:rPr b="0" lang="en-US" sz="1200" spc="-1" strike="noStrike">
                <a:solidFill>
                  <a:srgbClr val="000000"/>
                </a:solidFill>
                <a:latin typeface="Calibri"/>
              </a:rPr>
              <a:t>(e.g. Access of vulnerable groups to distribution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oint Planning </a:t>
            </a:r>
            <a:r>
              <a:rPr b="0" lang="en-US" sz="1200" spc="-1" strike="noStrike">
                <a:solidFill>
                  <a:srgbClr val="000000"/>
                </a:solidFill>
                <a:latin typeface="Calibri"/>
              </a:rPr>
              <a:t>(e.g. Working together to plan roles and responsibilities eff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oint Programming  </a:t>
            </a:r>
            <a:r>
              <a:rPr b="0" lang="en-US" sz="1200" spc="-1" strike="noStrike">
                <a:solidFill>
                  <a:srgbClr val="000000"/>
                </a:solidFill>
                <a:latin typeface="Calibri"/>
              </a:rPr>
              <a:t>(e.g. Joint training for staff on distribution monito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oint Advocacy </a:t>
            </a:r>
            <a:r>
              <a:rPr b="0" lang="en-US" sz="1200" spc="-1" strike="noStrike">
                <a:solidFill>
                  <a:srgbClr val="000000"/>
                </a:solidFill>
                <a:latin typeface="Calibri"/>
              </a:rPr>
              <a:t>(e.g. Public or private statements, could be on access requirements or protection concerns)</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7E8AA-7F47-464C-8BF1-8F751EF7B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CB7FB-9FA7-497A-9DF7-9F3C7DC27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diagram shows the ‘value-added’ of coordination - how shared information can help to raise standards in assistance and to support advocac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lanning in response to accurate information also fills gaps and avoids duplication in assista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is contributes to the effective and efficient use of resources in the support of refuge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ecent and relevant information collected at the camp level supports effective advocacy. It does so by enabling the compilation of sufficient data that clearly signals areas of need or the violation of righ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E328A-DB35-4EF6-9663-D9328C628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management of a refugee camp response, coordination happens at many levels between different stakeholders.  Coordination happens at the global, country, field and camp level, working with all partners and other stakeholders to ensure an efficient and effective response in line with international technical standards and to ensure that the rights of refugees are upheld.</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DE489-DD4C-4B0E-87C0-2759A0613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Case Study for Activity 2a or do a context-specific brainstorm on current coordination mechanisms for Activity 2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LETE SLIDE IF DOING ACTIVITY 2b.</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0A14A-9356-4E2D-8DF0-9E7A438EC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coordination is personal. Effective collaboration happens between people, so maintain regular communication and build trust to ensure decisions are made quickly.</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14784-A75F-40E7-87F7-E438C7436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027E0-65B4-4E9B-B7B8-C58D59F73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899C-55D2-46E6-92F6-058741F3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3C9A22-79BB-4D94-8039-1647014ED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99A12E-3470-44E9-91FD-8C4C1FCB4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275B98-724B-4FFF-9555-B51F38031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E6458-2421-4CD6-B79A-52346CE88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7FD2E-1EFA-4698-A99E-952954E4E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DF175-3D3D-4594-9848-A1BFEC845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BE7E4E-C0F3-4674-AB4B-CB79C017F7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D370D-D791-4826-9ACB-EC297A8112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4F0349-BBF7-4A2B-AFB9-75F30E0CAA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8D6C3-8097-4EF3-966B-ADD486320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E9952-BD0D-4808-9B06-9051C8792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ABE52-F446-409F-9F46-A69CADA61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E08EB-15F3-4165-931C-4CF7BA1CD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BBA12-B5CC-481D-975A-12DCC847E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25C95-C8C5-4DB2-A1FD-480E03EBD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06FE9-9E58-4E7E-8FFF-0D05E69BC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906E5-0C0C-43EC-BA8C-CCA5C0598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4A3A-E6CA-4C09-B03A-19992A261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02FC-146C-4C1C-BB12-679DB56D4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C6DA6-F3F4-453E-BE45-0691B7380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36475-D5F3-4B43-948E-5A4ACFEF3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95F7A-2489-4F6A-A22F-69EDEE792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4D789-9416-4F97-9A26-8DB6EC0B3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A4BC4-3494-4C58-9A92-C8EABB59E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84D472B-DB63-452D-B71F-762722070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97F434-F2B9-4306-96A6-589EE9643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BDB6FA-D027-421E-849F-4F19BD37C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5D4EE6-1F02-4285-89EC-79A7B6C9D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23137B-34DA-4DDE-857F-A48D69A68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95F4-5D20-4268-BEF4-E4248EDE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0D062D-A1A9-46BB-A084-F7E58B17B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61D756-A353-4320-A4B8-928FBB7C5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10BE72-79C5-48FD-B99C-6301F31B7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C34601-94B2-4F7D-B420-71B709D31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80C7C2-B0E1-4BBA-AEFB-D3849BE72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01E73DD-9DE8-457E-B5AE-C8EB4B402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360D521-1A6E-4259-85F3-CC55FE39B8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25E1C8-B1F1-437E-A174-657CC7CD02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635015-9104-4559-B9B0-24914E01B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C6BCB1-3302-47B6-BC90-193415C91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BC58-AD85-4B48-9111-4A9885A01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39D7A5-CBCD-4EC7-AD67-0BE740378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544923-6947-44B8-B310-D6E285451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145827-4C18-447B-825F-6752B4013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98FFB1-9263-4375-8A4C-D0CE334D0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474853-154E-4095-BBC1-0AF8A2391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28144D-B9E3-43F8-A897-1D7044EDC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4CA8E3-D8AC-43AE-89D9-0F9982714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E3CBD7-977F-46A9-995C-4E432CA65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5242A9E-E350-4867-A010-A30294644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1290DC-35CA-4031-B6C7-A55DF19F3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B77E-5B46-4E76-9261-371F1A54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F86998-1F1F-4983-9E79-0C4DA858A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0CFD35-F18C-4895-8631-AA74F9051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60065C-CBC7-4637-91F2-C332BE5CA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FB2E0E-CB38-4DE7-91C6-5C0E60664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B4540F-5213-4A1A-862E-C9FF14419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3BE5DF-7327-451D-9D98-29C2E4156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7CC89F-F8DE-4E5C-AE7A-652A5DA32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D8DA37-7087-491A-AB9B-433CF0285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5C1948-0773-425F-B657-CF5A43E0C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DDB0C49-7381-4627-9C57-580226E9D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65B08-A884-420F-8E50-60CA71244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7EDA70-4FA7-4C64-84B2-57D3931D2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EAF4A1-7C54-464D-BB47-A0A6EBF59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B581A-AD29-423D-8376-12A7C2EA8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E32EB-1412-480D-928A-B5721CAB4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88D1C-FC49-431E-89B3-8C211D2350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C02B8-693F-45EB-933B-5622F5C88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CC9D1-EC89-45EE-BB5E-35DECF934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3EE90-5592-469D-AA5F-39AB6E738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17289-9591-409E-8960-42D8C7A84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A1A00-5689-4FBE-B64F-76369368B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B090-35C6-4D31-AB04-A2AC4C2A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75A69-3B0C-4D47-B3D5-65518C6B83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0BA765-22DC-414B-A8A0-2370EF1AF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DBEF5E-DA83-427B-8445-3905CF914B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E207DCC-7BE9-4766-98ED-B0FA2D80F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A8DD16-BDDD-47D2-8C62-BD20C513F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59D03E-2D23-47C2-BDE0-E664E790A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2F501A-0025-480F-AA25-4747BEAB4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3020A5-6DC2-4CA2-B584-C240F5905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56D74B-E5CC-49D7-96ED-FAAEA0507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CC6461-BF56-4F7C-A111-1464DBC0A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0F40-5BCB-4A89-AB95-D1808A8F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AE667E-4947-4A8A-8C27-1D1968DC0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251444-70F4-4221-BE75-7BA4F42AC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97A0B79-860A-4D46-A7CA-2BA20AE28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8413C3-942E-4D98-9624-A237E555A0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5D802DE-59B2-48ED-8F88-E17D07BA7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C861E4-516B-4AC8-AAB2-52FCCC5AA4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6C26F-DC79-422C-BBD0-B5F6B03F3C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BE183-5232-4BA2-AD40-B0535A1913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D68FB-C40F-4A9C-A041-B472464DA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417BB-474C-4665-A789-2D7B804D7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5D9F-BCFB-4ED0-A38D-EF8FC821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2C5E9-C7D1-499A-B9C5-2EC9A1567F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9A618-638C-4471-A6B5-E70914110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6B44AC-31AB-4631-901F-D5282FE3A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185DC-4CE0-4441-A2BD-CEC72B25D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523A1-6D55-4D21-A810-1E28867A3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CD4F4A-C248-4FAD-BD21-3924B2E843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70797D-9B7B-4B00-A880-9F1F218A8F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EA8442-7EE8-4D53-BA83-EE8B69FA69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E0978-E43A-4890-9D09-B692FDC895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A2260-B36A-46CC-824A-07AD60FB7C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50495-2957-45BC-80EB-3631F66EEC6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9D880-8A5D-45BB-B1ED-F631D1B7BF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B0B9A-4AFC-46AC-8F51-AFBCDA2982B1}"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B994A-7A6E-4DA2-9D6F-9A154209F9D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AA5FC-9C20-4A51-AD60-3D1D2EE90D81}"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BCE7C-DD8E-4AD4-B22E-D15478392C3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C201D-EE12-4A32-A3E3-9D029AA99D72}"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AFBCA-E1E0-40EC-B9A5-FBEFBDF53F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D109C-40E9-4A94-8DA7-5291D937611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C9C88-5E5B-4AE5-BECD-2189B77AC5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C67C9-79A3-484B-A1E5-369612160C15}"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C3523-7929-47D3-B3C7-D788B7D94619}"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531E9-7BD7-430C-8CB7-1E1BA5BC283B}"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A712A-F414-4FF8-AE1F-109FB801092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78CB0-0229-47D4-8946-AB6A6A1B36E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0BC8E-73FC-4593-9BE3-F71697AFA8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C652E-8935-4971-B927-2A7CA06A4E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OORDINATION</a:t>
            </a:r>
            <a:endParaRPr b="0" lang="en-US" sz="4400" spc="-1" strike="noStrike">
              <a:solidFill>
                <a:srgbClr val="ebddc3"/>
              </a:solidFill>
              <a:latin typeface="Calibri"/>
            </a:endParaRPr>
          </a:p>
        </p:txBody>
      </p:sp>
      <p:sp>
        <p:nvSpPr>
          <p:cNvPr id="402" name="TextBox 3"/>
          <p:cNvSpPr/>
          <p:nvPr/>
        </p:nvSpPr>
        <p:spPr>
          <a:xfrm>
            <a:off x="393840" y="2884320"/>
            <a:ext cx="7466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d0af72"/>
                </a:solidFill>
                <a:latin typeface="Calibri"/>
              </a:rPr>
              <a:t>Module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404640" y="1700280"/>
            <a:ext cx="8361360" cy="4495680"/>
          </a:xfrm>
          <a:prstGeom prst="rect">
            <a:avLst/>
          </a:prstGeom>
          <a:noFill/>
          <a:ln w="0">
            <a:noFill/>
          </a:ln>
        </p:spPr>
        <p:txBody>
          <a:bodyPr anchor="t">
            <a:normAutofit fontScale="94000"/>
          </a:bodyPr>
          <a:p>
            <a:pPr marL="299520" indent="-29952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sk beforehand what exactly is expected of you at the meeting</a:t>
            </a:r>
            <a:endParaRPr b="0" lang="en-US" sz="2900" spc="-1" strike="noStrike">
              <a:solidFill>
                <a:srgbClr val="000000"/>
              </a:solidFill>
              <a:latin typeface="Calibri"/>
            </a:endParaRPr>
          </a:p>
          <a:p>
            <a:pPr marL="299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299520" indent="-29952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arify if you or someone else from your organization is the right person to attend</a:t>
            </a:r>
            <a:endParaRPr b="0" lang="en-US" sz="2900" spc="-1" strike="noStrike">
              <a:solidFill>
                <a:srgbClr val="000000"/>
              </a:solidFill>
              <a:latin typeface="Calibri"/>
            </a:endParaRPr>
          </a:p>
          <a:p>
            <a:pPr marL="299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299520" indent="-29952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sk what is the expected outcome of the meeting</a:t>
            </a:r>
            <a:endParaRPr b="0" lang="en-US" sz="2900" spc="-1" strike="noStrike">
              <a:solidFill>
                <a:srgbClr val="000000"/>
              </a:solidFill>
              <a:latin typeface="Calibri"/>
            </a:endParaRPr>
          </a:p>
          <a:p>
            <a:pPr marL="299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299520" indent="-29952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emand a clear agenda with a timeline</a:t>
            </a:r>
            <a:endParaRPr b="0" lang="en-US" sz="2900" spc="-1" strike="noStrike">
              <a:solidFill>
                <a:srgbClr val="000000"/>
              </a:solidFill>
              <a:latin typeface="Calibri"/>
            </a:endParaRPr>
          </a:p>
          <a:p>
            <a:pPr marL="299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299520" indent="-29952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e sure that all your inputs take issues a step further </a:t>
            </a:r>
            <a:endParaRPr b="0" lang="en-US" sz="2900" spc="-1" strike="noStrike">
              <a:solidFill>
                <a:srgbClr val="000000"/>
              </a:solidFill>
              <a:latin typeface="Calibri"/>
            </a:endParaRPr>
          </a:p>
        </p:txBody>
      </p:sp>
      <p:sp>
        <p:nvSpPr>
          <p:cNvPr id="427"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Attending Meetings</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26">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78920" y="1599840"/>
            <a:ext cx="8713800" cy="5257800"/>
          </a:xfrm>
          <a:prstGeom prst="rect">
            <a:avLst/>
          </a:prstGeom>
          <a:noFill/>
          <a:ln w="0">
            <a:noFill/>
          </a:ln>
        </p:spPr>
        <p:txBody>
          <a:bodyPr anchor="t">
            <a:normAutofit/>
          </a:bodyPr>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state the purpose of the meeting – what is the expected outcome (is it decision-making, information sharing, brainstorming, etc.)</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ite all stakeholders to comment/contribute to the agenda</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 the duration of the meeting (i.e., max. 1 hr) to come up with a realistic agenda</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d out clear agenda allowing reasonable time for preparations. Weekly meeting (at least 4 days before), bi-weekly at least one week before, etc.)</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indicate what level of decision-makers are needed for the meeting</a:t>
            </a:r>
            <a:endParaRPr b="0" lang="en-US" sz="2400" spc="-1" strike="noStrike">
              <a:solidFill>
                <a:srgbClr val="000000"/>
              </a:solidFill>
              <a:latin typeface="Calibri"/>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indicate the contribution you expect from each participant and share relevant info/reading materials in advance </a:t>
            </a:r>
            <a:endParaRPr b="0" lang="en-US" sz="2400" spc="-1" strike="noStrike">
              <a:solidFill>
                <a:srgbClr val="000000"/>
              </a:solidFill>
              <a:latin typeface="Calibri"/>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Hosting Meetings (1)</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28">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2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78920" y="1599840"/>
            <a:ext cx="8713800" cy="4876920"/>
          </a:xfrm>
          <a:prstGeom prst="rect">
            <a:avLst/>
          </a:prstGeom>
          <a:noFill/>
          <a:ln w="0">
            <a:noFill/>
          </a:ln>
        </p:spPr>
        <p:txBody>
          <a:bodyPr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ite participants who actively participate, to help ensure that the meeting  moves issues forward</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d every meeting with a clear and agreed-upon action plan with timeline and focal points for each action point</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arning: </a:t>
            </a:r>
            <a:r>
              <a:rPr b="0" i="1" lang="en-US" sz="2400" spc="-1" strike="noStrike">
                <a:solidFill>
                  <a:srgbClr val="000000"/>
                </a:solidFill>
                <a:latin typeface="Calibri"/>
              </a:rPr>
              <a:t>Never hold a meeting unless it will provide all with significant value added; clear deliverables, etc</a:t>
            </a:r>
            <a:r>
              <a:rPr b="0" lang="en-US" sz="2400" spc="-1" strike="noStrike">
                <a:solidFill>
                  <a:srgbClr val="000000"/>
                </a:solidFill>
                <a:latin typeface="Calibri"/>
              </a:rPr>
              <a:t>. </a:t>
            </a:r>
            <a:endParaRPr b="0" lang="en-US" sz="2400" spc="-1" strike="noStrike">
              <a:solidFill>
                <a:srgbClr val="000000"/>
              </a:solidFill>
              <a:latin typeface="Calibri"/>
            </a:endParaRPr>
          </a:p>
          <a:p>
            <a:pPr marL="318960" indent="-31896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mportant: </a:t>
            </a:r>
            <a:endParaRPr b="0" lang="en-US" sz="2400" spc="-1" strike="noStrike">
              <a:solidFill>
                <a:srgbClr val="000000"/>
              </a:solidFill>
              <a:latin typeface="Calibri"/>
            </a:endParaRPr>
          </a:p>
          <a:p>
            <a:pPr lvl="1" marL="639720" indent="-272880">
              <a:lnSpc>
                <a:spcPct val="90000"/>
              </a:lnSpc>
              <a:spcBef>
                <a:spcPts val="550"/>
              </a:spcBef>
              <a:buClr>
                <a:srgbClr val="345d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dopt a meeting schedule that aligns with next level meetings to enable inclusion and timely action and/or feedback on issues arising from your meetings</a:t>
            </a:r>
            <a:endParaRPr b="0" lang="en-US" sz="2400" spc="-1" strike="noStrike">
              <a:solidFill>
                <a:srgbClr val="000000"/>
              </a:solidFill>
              <a:latin typeface="Calibri"/>
            </a:endParaRPr>
          </a:p>
          <a:p>
            <a:pPr lvl="1" marL="639720" indent="-272880">
              <a:lnSpc>
                <a:spcPct val="90000"/>
              </a:lnSpc>
              <a:spcBef>
                <a:spcPts val="550"/>
              </a:spcBef>
              <a:buClr>
                <a:srgbClr val="345d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sure minutes are prepared and shared timely</a:t>
            </a:r>
            <a:endParaRPr b="0" lang="en-US" sz="2400" spc="-1" strike="noStrike">
              <a:solidFill>
                <a:srgbClr val="000000"/>
              </a:solidFill>
              <a:latin typeface="Calibri"/>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endParaRPr b="0" lang="en-US" sz="2400" spc="-1" strike="noStrike">
              <a:solidFill>
                <a:srgbClr val="000000"/>
              </a:solidFill>
              <a:latin typeface="Calibri"/>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431"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Hosting Meetings (2)</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30">
                                            <p:txEl>
                                              <p:pRg st="3" end="3"/>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30">
                                            <p:txEl>
                                              <p:pRg st="4" end="4"/>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30">
                                            <p:txEl>
                                              <p:pRg st="5" end="5"/>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430">
                                            <p:txEl>
                                              <p:pRg st="6" end="6"/>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04640" y="1700280"/>
            <a:ext cx="8361360" cy="4944960"/>
          </a:xfrm>
          <a:prstGeom prst="rect">
            <a:avLst/>
          </a:prstGeom>
          <a:noFill/>
          <a:ln w="0">
            <a:noFill/>
          </a:ln>
        </p:spPr>
        <p:txBody>
          <a:bodyPr anchor="t">
            <a:normAutofit/>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ssues to Consider:</a:t>
            </a:r>
            <a:endParaRPr b="0" lang="en-US" sz="2400" spc="-1" strike="noStrike">
              <a:solidFill>
                <a:srgbClr val="000000"/>
              </a:solidFill>
              <a:latin typeface="Calibri"/>
            </a:endParaRPr>
          </a:p>
          <a:p>
            <a:pPr marL="318960" indent="-31896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should participate? </a:t>
            </a:r>
            <a:endParaRPr b="0" lang="en-US" sz="2400" spc="-1" strike="noStrike">
              <a:solidFill>
                <a:srgbClr val="000000"/>
              </a:solidFill>
              <a:latin typeface="Calibri"/>
            </a:endParaRPr>
          </a:p>
          <a:p>
            <a:pPr lvl="1" marL="639720" indent="-272880">
              <a:lnSpc>
                <a:spcPct val="80000"/>
              </a:lnSpc>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selection of refugee representatives accounts for gender, age and special needs/interests</a:t>
            </a:r>
            <a:endParaRPr b="0" lang="en-US" sz="2400" spc="-1" strike="noStrike">
              <a:solidFill>
                <a:srgbClr val="000000"/>
              </a:solidFill>
              <a:latin typeface="Calibri"/>
            </a:endParaRPr>
          </a:p>
          <a:p>
            <a:pPr lvl="1" marL="639720" indent="-272880">
              <a:lnSpc>
                <a:spcPct val="80000"/>
              </a:lnSpc>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gnizant of power dynamics</a:t>
            </a:r>
            <a:endParaRPr b="0" lang="en-US" sz="2400" spc="-1" strike="noStrike">
              <a:solidFill>
                <a:srgbClr val="000000"/>
              </a:solidFill>
              <a:latin typeface="Calibri"/>
            </a:endParaRPr>
          </a:p>
          <a:p>
            <a:pPr marL="318960" indent="-31896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many participants? </a:t>
            </a:r>
            <a:endParaRPr b="0" lang="en-US" sz="2400" spc="-1" strike="noStrike">
              <a:solidFill>
                <a:srgbClr val="000000"/>
              </a:solidFill>
              <a:latin typeface="Calibri"/>
            </a:endParaRPr>
          </a:p>
          <a:p>
            <a:pPr lvl="1" marL="639720" indent="-272880">
              <a:lnSpc>
                <a:spcPct val="80000"/>
              </a:lnSpc>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on a number that is manageable and realistic, without sacrificing adequate representation</a:t>
            </a:r>
            <a:endParaRPr b="0" lang="en-US" sz="2400" spc="-1" strike="noStrike">
              <a:solidFill>
                <a:srgbClr val="000000"/>
              </a:solidFill>
              <a:latin typeface="Calibri"/>
            </a:endParaRPr>
          </a:p>
          <a:p>
            <a:pPr marL="318960" indent="-31896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cultural differences and how this impacts communication and understanding</a:t>
            </a:r>
            <a:endParaRPr b="0" lang="en-US" sz="2400" spc="-1" strike="noStrike">
              <a:solidFill>
                <a:srgbClr val="000000"/>
              </a:solidFill>
              <a:latin typeface="Calibri"/>
            </a:endParaRPr>
          </a:p>
          <a:p>
            <a:pPr marL="318960" indent="-318960">
              <a:lnSpc>
                <a:spcPct val="8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involve host community (determine what type of meetings; ensure participants from the host actually represent the interests of the community and not their personal interests or that of certain groups). </a:t>
            </a:r>
            <a:endParaRPr b="0" lang="en-US" sz="2400" spc="-1" strike="noStrike">
              <a:solidFill>
                <a:srgbClr val="000000"/>
              </a:solidFill>
              <a:latin typeface="Calibri"/>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Refugee Participation in Meetings</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
                                  <p:stCondLst>
                                    <p:cond delay="0"/>
                                  </p:stCondLst>
                                  <p:childTnLst>
                                    <p:set>
                                      <p:cBhvr>
                                        <p:cTn id="106"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432">
                                            <p:txEl>
                                              <p:pRg st="6" end="6"/>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Think of National Actors</a:t>
            </a:r>
            <a:endParaRPr b="0" lang="en-US" sz="4400" spc="-1" strike="noStrike">
              <a:solidFill>
                <a:srgbClr val="775f55"/>
              </a:solidFill>
              <a:latin typeface="Calibri"/>
            </a:endParaRPr>
          </a:p>
        </p:txBody>
      </p:sp>
      <p:sp>
        <p:nvSpPr>
          <p:cNvPr id="435" name="PlaceHolder 2"/>
          <p:cNvSpPr>
            <a:spLocks noGrp="1"/>
          </p:cNvSpPr>
          <p:nvPr>
            <p:ph/>
          </p:nvPr>
        </p:nvSpPr>
        <p:spPr>
          <a:xfrm>
            <a:off x="313920" y="1600200"/>
            <a:ext cx="8448840" cy="4998960"/>
          </a:xfrm>
          <a:prstGeom prst="rect">
            <a:avLst/>
          </a:prstGeom>
          <a:noFill/>
          <a:ln w="0">
            <a:noFill/>
          </a:ln>
        </p:spPr>
        <p:txBody>
          <a:bodyPr anchor="t">
            <a:normAutofit/>
          </a:bodyPr>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or interpreters if meeting held in a language foreign to participants, (i) consider utilizing existing resources  and also reflect  translation  costs in budgets, etc )</a:t>
            </a:r>
            <a:endParaRPr b="0" lang="en-US" sz="2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ist with transport and other logistical support if meetings held at capital level</a:t>
            </a:r>
            <a:endParaRPr b="0" lang="en-US" sz="2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iming does not conflict with national authority meetings</a:t>
            </a:r>
            <a:endParaRPr b="0" lang="en-US" sz="2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cultural norms for seating arrangements, appropriate recognition for authority, etc.</a:t>
            </a:r>
            <a:endParaRPr b="0" lang="en-US" sz="2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ternet access for national stakeholders to ease communication</a:t>
            </a:r>
            <a:endParaRPr b="0" lang="en-US" sz="2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create parallel or duplicate structur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Reflection</a:t>
            </a:r>
            <a:endParaRPr b="0" lang="en-US" sz="4400" spc="-1" strike="noStrike">
              <a:solidFill>
                <a:srgbClr val="775f55"/>
              </a:solidFill>
              <a:latin typeface="Calibri"/>
            </a:endParaRPr>
          </a:p>
        </p:txBody>
      </p:sp>
      <p:sp>
        <p:nvSpPr>
          <p:cNvPr id="437" name=""/>
          <p:cNvSpPr txBox="1"/>
          <p:nvPr/>
        </p:nvSpPr>
        <p:spPr>
          <a:xfrm>
            <a:off x="745920" y="1573200"/>
            <a:ext cx="7621560" cy="1416240"/>
          </a:xfrm>
          <a:prstGeom prst="rect">
            <a:avLst/>
          </a:prstGeom>
          <a:noFill/>
          <a:ln w="0">
            <a:noFill/>
          </a:ln>
        </p:spPr>
        <p:txBody>
          <a:bodyPr anchor="t">
            <a:normAutofit fontScale="80000"/>
          </a:bodyPr>
          <a:p>
            <a:pPr marL="254880" indent="-254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302a"/>
                </a:solidFill>
                <a:latin typeface="Calibri"/>
              </a:rPr>
              <a:t>	</a:t>
            </a:r>
            <a:r>
              <a:rPr b="0" lang="en-US" sz="3600" spc="-1" strike="noStrike">
                <a:solidFill>
                  <a:srgbClr val="3c302a"/>
                </a:solidFill>
                <a:latin typeface="Calibri"/>
              </a:rPr>
              <a:t>How could you personally contribute to more effective coordination within camp management?</a:t>
            </a:r>
            <a:endParaRPr b="0" lang="en-US" sz="3600" spc="-1" strike="noStrike">
              <a:solidFill>
                <a:srgbClr val="000000"/>
              </a:solidFill>
              <a:latin typeface="Calibri"/>
            </a:endParaRPr>
          </a:p>
        </p:txBody>
      </p:sp>
      <p:pic>
        <p:nvPicPr>
          <p:cNvPr id="438" name="Picture 2" descr="D:\Emma\Pictures\photos from camp management NRC\all camp management\DSCN3079.JPG"/>
          <p:cNvPicPr/>
          <p:nvPr/>
        </p:nvPicPr>
        <p:blipFill>
          <a:blip r:embed="rId1"/>
          <a:stretch/>
        </p:blipFill>
        <p:spPr>
          <a:xfrm>
            <a:off x="3309840" y="3400560"/>
            <a:ext cx="2592360" cy="345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Learning Objectives</a:t>
            </a:r>
            <a:endParaRPr b="0" lang="en-US" sz="4400" spc="-1" strike="noStrike">
              <a:solidFill>
                <a:srgbClr val="775f55"/>
              </a:solidFill>
              <a:latin typeface="Calibri"/>
            </a:endParaRPr>
          </a:p>
        </p:txBody>
      </p:sp>
      <p:sp>
        <p:nvSpPr>
          <p:cNvPr id="404" name=""/>
          <p:cNvSpPr txBox="1"/>
          <p:nvPr/>
        </p:nvSpPr>
        <p:spPr>
          <a:xfrm>
            <a:off x="457200" y="1712520"/>
            <a:ext cx="8229600" cy="4784760"/>
          </a:xfrm>
          <a:prstGeom prst="rect">
            <a:avLst/>
          </a:prstGeom>
          <a:noFill/>
          <a:ln w="0">
            <a:noFill/>
          </a:ln>
        </p:spPr>
        <p:txBody>
          <a:bodyPr anchor="t">
            <a:normAutofit fontScale="99000"/>
          </a:bodyPr>
          <a:p>
            <a:pPr marL="315720" indent="-315720">
              <a:spcBef>
                <a:spcPts val="1199"/>
              </a:spcBef>
              <a:spcAft>
                <a:spcPts val="1199"/>
              </a:spcAft>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eciate the benefits of effective coordination, including raising standards in camps/collective centres and upholding the rights of refugees</a:t>
            </a:r>
            <a:endParaRPr b="0" lang="en-US" sz="3000" spc="-1" strike="noStrike">
              <a:solidFill>
                <a:srgbClr val="000000"/>
              </a:solidFill>
              <a:latin typeface="Calibri"/>
            </a:endParaRPr>
          </a:p>
          <a:p>
            <a:pPr marL="315720" indent="-315720">
              <a:spcBef>
                <a:spcPts val="1199"/>
              </a:spcBef>
              <a:spcAft>
                <a:spcPts val="1199"/>
              </a:spcAft>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tinguish between coordination roles at the intra-camp (within a camp) and inter-camp (between camps) levels</a:t>
            </a:r>
            <a:endParaRPr b="0" lang="en-US" sz="3000" spc="-1" strike="noStrike">
              <a:solidFill>
                <a:srgbClr val="000000"/>
              </a:solidFill>
              <a:latin typeface="Calibri"/>
            </a:endParaRPr>
          </a:p>
          <a:p>
            <a:pPr marL="315720" indent="-315720">
              <a:spcBef>
                <a:spcPts val="1199"/>
              </a:spcBef>
              <a:spcAft>
                <a:spcPts val="1199"/>
              </a:spcAft>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 a range of coordination mechanisms and tools to support inter- and intra-camp activities throughout the camp life cycle</a:t>
            </a:r>
            <a:endParaRPr b="0" lang="en-US" sz="3000" spc="-1" strike="noStrike">
              <a:solidFill>
                <a:srgbClr val="000000"/>
              </a:solidFill>
              <a:latin typeface="Calibri"/>
            </a:endParaRPr>
          </a:p>
          <a:p>
            <a:pPr marL="315720" indent="-315720">
              <a:spcBef>
                <a:spcPts val="1199"/>
              </a:spcBef>
              <a:spcAft>
                <a:spcPts val="1199"/>
              </a:spcAft>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5720" indent="-315720">
              <a:spcBef>
                <a:spcPts val="1199"/>
              </a:spcBef>
              <a:spcAft>
                <a:spcPts val="1199"/>
              </a:spcAft>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oordination</a:t>
            </a:r>
            <a:endParaRPr b="0" lang="en-US" sz="4400" spc="-1" strike="noStrike">
              <a:solidFill>
                <a:srgbClr val="775f55"/>
              </a:solidFill>
              <a:latin typeface="Calibri"/>
            </a:endParaRPr>
          </a:p>
        </p:txBody>
      </p:sp>
      <p:sp>
        <p:nvSpPr>
          <p:cNvPr id="406" name="Rectangle 5"/>
          <p:cNvSpPr/>
          <p:nvPr/>
        </p:nvSpPr>
        <p:spPr>
          <a:xfrm>
            <a:off x="228600" y="3581280"/>
            <a:ext cx="8915400" cy="2819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249"/>
              </a:spcBef>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marL="533520" indent="-533520">
              <a:lnSpc>
                <a:spcPct val="80000"/>
              </a:lnSpc>
              <a:spcBef>
                <a:spcPts val="249"/>
              </a:spcBef>
              <a:spcAft>
                <a:spcPts val="1199"/>
              </a:spcAft>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
        <p:nvSpPr>
          <p:cNvPr id="407" name="Rectangle 6"/>
          <p:cNvSpPr/>
          <p:nvPr/>
        </p:nvSpPr>
        <p:spPr>
          <a:xfrm>
            <a:off x="5268960" y="3581280"/>
            <a:ext cx="3497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aim is to raise the standard of living for refugees and ensure full and equal access to their basic human rights</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pic>
        <p:nvPicPr>
          <p:cNvPr id="408" name="Picture 2" descr="C:\Users\Hadley\Documents\Downloads\Morang-floods-coordination-meeting.JPG"/>
          <p:cNvPicPr/>
          <p:nvPr/>
        </p:nvPicPr>
        <p:blipFill>
          <a:blip r:embed="rId1"/>
          <a:stretch/>
        </p:blipFill>
        <p:spPr>
          <a:xfrm>
            <a:off x="0" y="3165480"/>
            <a:ext cx="4925880" cy="3692520"/>
          </a:xfrm>
          <a:prstGeom prst="rect">
            <a:avLst/>
          </a:prstGeom>
          <a:ln w="0">
            <a:noFill/>
          </a:ln>
        </p:spPr>
      </p:pic>
      <p:sp>
        <p:nvSpPr>
          <p:cNvPr id="409" name="Rectangle 5"/>
          <p:cNvSpPr/>
          <p:nvPr/>
        </p:nvSpPr>
        <p:spPr>
          <a:xfrm>
            <a:off x="696960" y="1684440"/>
            <a:ext cx="80690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t is a process of sharing information and planning together in pursuit of shared and agreed-upon goa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Benefits of Strong Coordination</a:t>
            </a:r>
            <a:endParaRPr b="0" lang="en-US" sz="4400" spc="-1" strike="noStrike">
              <a:solidFill>
                <a:srgbClr val="775f55"/>
              </a:solidFill>
              <a:latin typeface="Calibri"/>
            </a:endParaRPr>
          </a:p>
        </p:txBody>
      </p:sp>
      <p:sp>
        <p:nvSpPr>
          <p:cNvPr id="411" name=""/>
          <p:cNvSpPr txBox="1"/>
          <p:nvPr/>
        </p:nvSpPr>
        <p:spPr>
          <a:xfrm>
            <a:off x="457200" y="1889280"/>
            <a:ext cx="4751280" cy="4525920"/>
          </a:xfrm>
          <a:prstGeom prst="rect">
            <a:avLst/>
          </a:prstGeom>
          <a:noFill/>
          <a:ln w="0">
            <a:noFill/>
          </a:ln>
        </p:spPr>
        <p:txBody>
          <a:bodyPr anchor="t">
            <a:normAutofit/>
          </a:bodyPr>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formation Sharing</a:t>
            </a:r>
            <a:endParaRPr b="0" lang="en-US" sz="36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nning</a:t>
            </a:r>
            <a:endParaRPr b="0" lang="en-US" sz="36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gramming</a:t>
            </a:r>
            <a:endParaRPr b="0" lang="en-US" sz="36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ocacy</a:t>
            </a:r>
            <a:endParaRPr b="0" lang="en-US" sz="3600" spc="-1" strike="noStrike">
              <a:solidFill>
                <a:srgbClr val="000000"/>
              </a:solidFill>
              <a:latin typeface="Calibri"/>
            </a:endParaRPr>
          </a:p>
        </p:txBody>
      </p:sp>
      <p:pic>
        <p:nvPicPr>
          <p:cNvPr id="412" name="Picture 2" descr="H:\NBO Pilot Camp Pics - Jake Zarins\4.DSCN1344.JPG"/>
          <p:cNvPicPr/>
          <p:nvPr/>
        </p:nvPicPr>
        <p:blipFill>
          <a:blip r:embed="rId1"/>
          <a:stretch/>
        </p:blipFill>
        <p:spPr>
          <a:xfrm>
            <a:off x="3849840" y="2863800"/>
            <a:ext cx="5294160" cy="3970440"/>
          </a:xfrm>
          <a:prstGeom prst="rect">
            <a:avLst/>
          </a:prstGeom>
          <a:ln w="0">
            <a:noFill/>
          </a:ln>
        </p:spPr>
      </p:pic>
      <p:sp>
        <p:nvSpPr>
          <p:cNvPr id="413" name="TextBox 7"/>
          <p:cNvSpPr/>
          <p:nvPr/>
        </p:nvSpPr>
        <p:spPr>
          <a:xfrm>
            <a:off x="6784920" y="6642000"/>
            <a:ext cx="2371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 Jake Zari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34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Sharing Information </a:t>
            </a:r>
            <a:endParaRPr b="0" lang="en-US" sz="4400" spc="-1" strike="noStrike">
              <a:solidFill>
                <a:srgbClr val="775f55"/>
              </a:solidFill>
              <a:latin typeface="Calibri"/>
            </a:endParaRPr>
          </a:p>
        </p:txBody>
      </p:sp>
      <p:sp>
        <p:nvSpPr>
          <p:cNvPr id="415" name="PlaceHolder 2"/>
          <p:cNvSpPr>
            <a:spLocks noGrp="1"/>
          </p:cNvSpPr>
          <p:nvPr>
            <p:ph/>
          </p:nvPr>
        </p:nvSpPr>
        <p:spPr>
          <a:xfrm>
            <a:off x="456840" y="1965240"/>
            <a:ext cx="4475160" cy="4416480"/>
          </a:xfrm>
          <a:prstGeom prst="rect">
            <a:avLst/>
          </a:prstGeom>
          <a:noFill/>
          <a:ln w="0">
            <a:noFill/>
          </a:ln>
        </p:spPr>
        <p:txBody>
          <a:bodyPr anchor="t">
            <a:normAutofit/>
          </a:bodyPr>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16" name="Diagram 45" descr=""/>
          <p:cNvPicPr/>
          <p:nvPr/>
        </p:nvPicPr>
        <p:blipFill>
          <a:blip r:embed="rId1"/>
          <a:stretch/>
        </p:blipFill>
        <p:spPr>
          <a:xfrm>
            <a:off x="1627200" y="1798560"/>
            <a:ext cx="5803920" cy="459576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Effective Coordination</a:t>
            </a:r>
            <a:endParaRPr b="0" lang="en-US" sz="4400" spc="-1" strike="noStrike">
              <a:solidFill>
                <a:srgbClr val="775f55"/>
              </a:solidFill>
              <a:latin typeface="Calibri"/>
            </a:endParaRPr>
          </a:p>
        </p:txBody>
      </p:sp>
      <p:sp>
        <p:nvSpPr>
          <p:cNvPr id="418" name=""/>
          <p:cNvSpPr txBox="1"/>
          <p:nvPr/>
        </p:nvSpPr>
        <p:spPr>
          <a:xfrm>
            <a:off x="612720" y="1600200"/>
            <a:ext cx="8153280" cy="4495680"/>
          </a:xfrm>
          <a:prstGeom prst="rect">
            <a:avLst/>
          </a:prstGeom>
          <a:noFill/>
          <a:ln w="0">
            <a:noFill/>
          </a:ln>
        </p:spPr>
        <p:txBody>
          <a:bodyPr anchor="ctr">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hat factors influence effective coordina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Levels of Coordination</a:t>
            </a:r>
            <a:endParaRPr b="0" lang="en-US" sz="4400" spc="-1" strike="noStrike">
              <a:solidFill>
                <a:srgbClr val="775f55"/>
              </a:solidFill>
              <a:latin typeface="Calibri"/>
            </a:endParaRPr>
          </a:p>
        </p:txBody>
      </p:sp>
      <p:sp>
        <p:nvSpPr>
          <p:cNvPr id="420" name=""/>
          <p:cNvSpPr txBox="1"/>
          <p:nvPr/>
        </p:nvSpPr>
        <p:spPr>
          <a:xfrm>
            <a:off x="-360" y="1618920"/>
            <a:ext cx="8953560" cy="4786200"/>
          </a:xfrm>
          <a:prstGeom prst="rect">
            <a:avLst/>
          </a:prstGeom>
          <a:noFill/>
          <a:ln w="0">
            <a:noFill/>
          </a:ln>
        </p:spPr>
        <p:txBody>
          <a:bodyPr anchor="t">
            <a:normAutofit fontScale="97000"/>
          </a:bodyPr>
          <a:p>
            <a:pPr marL="35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ordination structures operate at many different levels &amp; with different stakeholders</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Globally &amp; at Country Level</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Regional Levels</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mong Camps</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a Camp</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a Sector</a:t>
            </a:r>
            <a:endParaRPr b="0" lang="en-US" sz="3600" spc="-1" strike="noStrike">
              <a:solidFill>
                <a:srgbClr val="000000"/>
              </a:solidFill>
              <a:latin typeface="Calibri"/>
            </a:endParaRPr>
          </a:p>
          <a:p>
            <a:pPr lvl="1" marL="660600">
              <a:spcBef>
                <a:spcPts val="55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cross Sectors </a:t>
            </a:r>
            <a:endParaRPr b="0" lang="en-US" sz="3600" spc="-1" strike="noStrike">
              <a:solidFill>
                <a:srgbClr val="000000"/>
              </a:solidFill>
              <a:latin typeface="Calibri"/>
            </a:endParaRPr>
          </a:p>
        </p:txBody>
      </p:sp>
      <p:pic>
        <p:nvPicPr>
          <p:cNvPr id="421" name="Content Placeholder 6" descr="IMG_0764.jpg"/>
          <p:cNvPicPr/>
          <p:nvPr/>
        </p:nvPicPr>
        <p:blipFill>
          <a:blip r:embed="rId1"/>
          <a:stretch/>
        </p:blipFill>
        <p:spPr>
          <a:xfrm>
            <a:off x="4876920" y="34909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5600" y="274320"/>
            <a:ext cx="8431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se Study – 30 minutes</a:t>
            </a:r>
            <a:endParaRPr b="0" lang="en-US" sz="4400" spc="-1" strike="noStrike">
              <a:solidFill>
                <a:srgbClr val="775f55"/>
              </a:solidFill>
              <a:latin typeface="Calibri"/>
            </a:endParaRPr>
          </a:p>
        </p:txBody>
      </p:sp>
      <p:sp>
        <p:nvSpPr>
          <p:cNvPr id="423" name="PlaceHolder 2"/>
          <p:cNvSpPr>
            <a:spLocks noGrp="1"/>
          </p:cNvSpPr>
          <p:nvPr>
            <p:ph/>
          </p:nvPr>
        </p:nvSpPr>
        <p:spPr>
          <a:xfrm>
            <a:off x="666360" y="1709640"/>
            <a:ext cx="7581960" cy="474840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nstructions:</a:t>
            </a:r>
            <a:endParaRPr b="0" lang="en-US" sz="40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case study scenario card </a:t>
            </a:r>
            <a:endParaRPr b="0" lang="en-US" sz="4000" spc="-1" strike="noStrike">
              <a:solidFill>
                <a:srgbClr val="000000"/>
              </a:solidFill>
              <a:latin typeface="Calibri"/>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task</a:t>
            </a:r>
            <a:endParaRPr b="0" lang="en-US" sz="40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ups: UNHCR, Government &amp; NGOs </a:t>
            </a:r>
            <a:endParaRPr b="0" lang="en-US" sz="40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 prepared to debrie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179280" y="1628640"/>
            <a:ext cx="8964720" cy="5229360"/>
          </a:xfrm>
          <a:prstGeom prst="rect">
            <a:avLst/>
          </a:prstGeom>
          <a:noFill/>
          <a:ln w="0">
            <a:noFill/>
          </a:ln>
        </p:spPr>
        <p:txBody>
          <a:bodyPr anchor="t">
            <a:normAutofit/>
          </a:bodyPr>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a shared vision from the beginning (agree on goals)</a:t>
            </a:r>
            <a:endParaRPr b="0" lang="en-US" sz="3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right mix of stakeholders and decision-makers</a:t>
            </a:r>
            <a:endParaRPr b="0" lang="en-US" sz="3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each partner agency’s institutional interests are served by the collaboration</a:t>
            </a:r>
            <a:endParaRPr b="0" lang="en-US" sz="3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all coordination is personal</a:t>
            </a:r>
            <a:endParaRPr b="0" lang="en-US" sz="3200" spc="-1" strike="noStrike">
              <a:solidFill>
                <a:srgbClr val="000000"/>
              </a:solidFill>
              <a:latin typeface="Calibri"/>
            </a:endParaRPr>
          </a:p>
          <a:p>
            <a:pPr marL="318960" indent="-318960">
              <a:spcBef>
                <a:spcPts val="18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ways go for win-win solutions</a:t>
            </a:r>
            <a:endParaRPr b="0" lang="en-US" sz="3200" spc="-1" strike="noStrike">
              <a:solidFill>
                <a:srgbClr val="000000"/>
              </a:solidFill>
              <a:latin typeface="Calibri"/>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How to Enhance Coordination</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6:15:58Z</dcterms:created>
  <dc:creator>mikeheidi</dc:creator>
  <dc:description/>
  <dc:language>en-US</dc:language>
  <cp:lastModifiedBy>Andrew</cp:lastModifiedBy>
  <dcterms:modified xsi:type="dcterms:W3CDTF">2012-04-15T15:27:39Z</dcterms:modified>
  <cp:revision>371</cp:revision>
  <dc:subject/>
  <dc:title>Slide 1</dc:title>
</cp:coreProperties>
</file>