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069-8FFE-4152-8E89-0F71A6A6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970-2209-412C-94C9-4B8AACB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EC9-B9BB-4F7E-BCF0-CE8F3A93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718-B095-44AD-A7C6-658180EA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F15-E235-4266-978C-7FAA62A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105-4FE7-4983-B98A-ABDDC9B6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DD0B-C43C-4678-8ACB-A344CC4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1688-8F09-4698-8D68-EA8550D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8BE-E488-460F-B7B9-928F762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477D-8593-4942-8D20-F7105A40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D2F2-9D85-4132-9C6B-D831609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16E-A84F-496E-B008-43358C2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CE5-EABE-4AED-BEFB-B0B5A90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F2B9-A8CC-45B2-A27F-A6CD48C8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3FD9-6A05-4D00-A29E-48F920C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7AF6-D9D2-416F-ADDF-1658751D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CAEE-1553-4435-88BE-DBAAF1D5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F8A-D7CC-4A1E-9DB1-5BBD4428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248-6CC3-41C7-A2EB-20D0752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09D-B8BC-40AD-9A76-A58DE5F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B86-7DB9-4295-A41A-5E42478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283-E212-4006-8A92-D5D310B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BB3-ADD7-41DB-9284-9A603F8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16A-AD1A-449F-BF5A-75CC5B5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0B8-717F-4F5B-A551-F08582E956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F6E-00D2-4DB2-95CF-8837B5D478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Garamond"/>
              </a:rPr>
              <a:t>Kakuma Nutrition Survey</a:t>
            </a:r>
            <a:br>
              <a:rPr sz="5400"/>
            </a:br>
            <a:r>
              <a:rPr b="0" lang="en-US" sz="5400" spc="-1" strike="noStrike">
                <a:solidFill>
                  <a:srgbClr val="cc3300"/>
                </a:solidFill>
                <a:latin typeface="Garamond"/>
              </a:rPr>
              <a:t>November 2012</a:t>
            </a:r>
            <a:endParaRPr b="0" lang="en-US" sz="5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T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WASH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o you complete WASH in every household or every other household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your respondent has two 10 L containers and she made 2 journeys to collect water yesterday, how many journeys do you input into the phone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en the respondent shows you where she stores her drinking water, what are you looking for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hether they are narrow necked or cover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ow much she stores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the respondent didn’t collect water yesterday, would you still ask about the capacity of the containers she uses to collect water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You and your neighbour share a toilet. You have 3 people in your family, your neighbour has 5 people in her family. How many households share this toilet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Food securit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interviewing skills are important to remember when asking about coping strategies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en you are asking about dietary divers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Go through the list and ask about each food item in tur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sk her to remember all the foods and then input this into the ph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en asking about the dietary diversity, what period of time are we interested i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en asking about the dietary diversity, who are we interested i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respondent answering the questionnaire (main caretaker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nyone in the househol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00"/>
              </a:spcBef>
              <a:buClr>
                <a:srgbClr val="cc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Woma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ould we do the ‘Woman’ questionnaire in every household or every other househol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ould we take the Hb of a pregnant lad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the woman is absent from the household, what should we d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k her abs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urn two times and then mark her absent if she has not retur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o to the clinic to find 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Chil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600200"/>
          <a:ext cx="8209080" cy="4749840"/>
        </p:xfrm>
        <a:graphic>
          <a:graphicData uri="http://schemas.openxmlformats.org/drawingml/2006/table">
            <a:tbl>
              <a:tblPr/>
              <a:tblGrid>
                <a:gridCol w="828720"/>
                <a:gridCol w="7380360"/>
              </a:tblGrid>
              <a:tr h="4604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 a child aged 61 months be included in this questionnai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age group of children should be included in this questionnai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do if you don’t know the exact date of birth of a chil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ess the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k at the HH UNHCR manif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the event’s calen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many measurers are needed to measure MUAC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other tells you her child is born the month before Ramadan in 2011. How old is the child? (use the event’s calendar provid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ch side of the height board should you read a child’s height from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 the sentence: To assess oedema in a child, you should press down on a child’s __________ for ___________ seco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 should a child be referred to SFP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Chil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600200"/>
          <a:ext cx="8209080" cy="4853160"/>
        </p:xfrm>
        <a:graphic>
          <a:graphicData uri="http://schemas.openxmlformats.org/drawingml/2006/table">
            <a:tbl>
              <a:tblPr/>
              <a:tblGrid>
                <a:gridCol w="828720"/>
                <a:gridCol w="7380360"/>
              </a:tblGrid>
              <a:tr h="7002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 should a child be referred to TFP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 5 items of equipment that you should take with you to the field every da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_________ 2._________ 3. _________4. ___________ 5. 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period of time do we assess diarrhoea i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do you define diarrhoe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ch children to you take Hb measurements 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the last time a child received a vitamin A capsule was in January, do we write ‘yes’ or ‘no’ on the questionnai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IYCF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600200"/>
          <a:ext cx="8209080" cy="4924440"/>
        </p:xfrm>
        <a:graphic>
          <a:graphicData uri="http://schemas.openxmlformats.org/drawingml/2006/table">
            <a:tbl>
              <a:tblPr/>
              <a:tblGrid>
                <a:gridCol w="828720"/>
                <a:gridCol w="7380360"/>
              </a:tblGrid>
              <a:tr h="6984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age group does this questionnaire asses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phones, is there a separate questionnaire for IYCF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you measure the weight of an infant of 5.5 months? Yes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a child is 24 months should they be included in this questionnai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ve 3 examples of infant formula used in the camp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correct order to ask the individual questionnaire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Child   2.   Woman 3. IY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Woman   2. IYCF   3. 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Woman   2. Child   3. IY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Garamond"/>
              </a:rPr>
              <a:t>Mosquito ne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515960"/>
          <a:ext cx="8136000" cy="5000760"/>
        </p:xfrm>
        <a:graphic>
          <a:graphicData uri="http://schemas.openxmlformats.org/drawingml/2006/table">
            <a:tbl>
              <a:tblPr/>
              <a:tblGrid>
                <a:gridCol w="820800"/>
                <a:gridCol w="7315200"/>
              </a:tblGrid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definition of a household used in the surve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a brand of mosquito ne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 was the last IRS spraying campaig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do if a HH says that they have no mosquito net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mosquito nets that are being used for another purpose: fencing, fishing, covering their plants; considered for inclusion in total number of mosquito nets in the household? Yes or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do if the number of mosquito nets the respondent reports does not equal the number of mosquito nets found in their househol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households that do not have any mosquito nets included in this surve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or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4080" marR="6408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4:33:03Z</dcterms:created>
  <dc:creator>UNHCR</dc:creator>
  <dc:description/>
  <dc:language>en-US</dc:language>
  <cp:lastModifiedBy>Melody Tondeur</cp:lastModifiedBy>
  <dcterms:modified xsi:type="dcterms:W3CDTF">2013-04-19T07:42:42Z</dcterms:modified>
  <cp:revision>99</cp:revision>
  <dc:subject/>
  <dc:title>Kakuma Nutrition Survey November-December 2011</dc:title>
</cp:coreProperties>
</file>