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382-B3B8-4D66-96D3-F30EB155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CA7-0429-4F86-8AC1-716259D2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E84-2CF7-4714-AEDA-A265CB1C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FA2-96DD-49F9-84A4-4C0F4893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1CBF-8CBD-4D8A-877E-4F7A788C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10E7-F5E9-465C-B3AE-187F3B51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7AC2-14D8-4750-B026-829E563A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8E9B-45CD-4320-A6E2-B1153F17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5126-3C82-4006-8E89-AA9BC439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C5A9-0FED-4705-AB20-0F33F7B0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6875-65BD-4899-820C-6D3D1C46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758-FFA8-4CF6-A9AD-2318E1BD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BBF3-9E88-407D-A388-187C6A62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4146-62C7-49F8-9E8F-6088AE28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418B-935C-41CF-A8EE-EE50DDFD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8775-0432-4507-99D1-35F56C62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D836-3881-4D25-A4C0-AE004180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C74-43FB-486C-A26B-FF51C6B1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161-DA7F-40A4-8E75-0F280BF0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2E8-1964-4445-99B2-42508B12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9AD-E87C-4C10-8F1E-628C79F9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F80-0361-4A4A-9DBF-C3CAA770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70C-62F8-4CDC-98CE-B3798AB7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1D5-D25E-4F9C-A006-595321D5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3751-2B1F-44F2-B4E4-B2095D5727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C5BA-2D5B-4FDB-B9F3-B5C80A04A3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Kakuma Nutrition Survey</a:t>
            </a:r>
            <a:br>
              <a:rPr sz="5400"/>
            </a:b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November 2012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ining Day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Standardisation tes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bjectiv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assess how consistent and accurate measurements are within individual measurers and between mea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better understand the challenges in taking measu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se makes perfec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Diagram 5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70880" cy="4406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Standardisation - Anthropometry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6" name="Picture 2" descr="http://aviewfromtheright.com/wp-content/uploads/2012/02/black-mother-and-child.jpg"/>
          <p:cNvPicPr/>
          <p:nvPr/>
        </p:nvPicPr>
        <p:blipFill>
          <a:blip r:embed="rId2"/>
          <a:stretch/>
        </p:blipFill>
        <p:spPr>
          <a:xfrm>
            <a:off x="776160" y="3933720"/>
            <a:ext cx="1758960" cy="1173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983880" y="353232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hild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782440" y="3860640"/>
            <a:ext cx="11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hild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4255560" y="3860640"/>
            <a:ext cx="11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hild 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5833440" y="3860640"/>
            <a:ext cx="11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hild 4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7417800" y="3860640"/>
            <a:ext cx="11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hild 5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Curved Up Arrow 11"/>
          <p:cNvSpPr/>
          <p:nvPr/>
        </p:nvSpPr>
        <p:spPr>
          <a:xfrm flipH="1">
            <a:off x="394560" y="5516640"/>
            <a:ext cx="8497800" cy="1008000"/>
          </a:xfrm>
          <a:custGeom>
            <a:avLst/>
            <a:gdLst>
              <a:gd name="textAreaLeft" fmla="*/ 2029680 w 8497800"/>
              <a:gd name="textAreaRight" fmla="*/ 6342120 w 849780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320" hR="21600" stAng="10800000" swAng="-5400000"/>
                <a:lnTo>
                  <a:pt x="10961" y="21600"/>
                </a:lnTo>
                <a:arcTo wR="10320" hR="21600" stAng="5400000" swAng="-3696680"/>
                <a:lnTo>
                  <a:pt x="21272" y="5400"/>
                </a:lnTo>
                <a:lnTo>
                  <a:pt x="20960" y="0"/>
                </a:lnTo>
                <a:lnTo>
                  <a:pt x="19991" y="5400"/>
                </a:lnTo>
                <a:lnTo>
                  <a:pt x="20311" y="5400"/>
                </a:lnTo>
                <a:arcTo wR="10320" hR="21600" stAng="1703320" swAng="3645650"/>
                <a:lnTo>
                  <a:pt x="10640" y="21590"/>
                </a:lnTo>
                <a:arcTo wR="10320" hR="21600" stAng="5451030" swAng="5348970"/>
                <a:close/>
              </a:path>
              <a:path fill="darkenLess" w="21600" h="21600">
                <a:moveTo>
                  <a:pt x="0" y="0"/>
                </a:moveTo>
                <a:arcTo wR="10320" hR="21600" stAng="10800000" swAng="-5400000"/>
                <a:lnTo>
                  <a:pt x="10961" y="21600"/>
                </a:lnTo>
                <a:arcTo wR="10320" hR="21600" stAng="5400000" swAng="51030"/>
                <a:lnTo>
                  <a:pt x="10640" y="21590"/>
                </a:lnTo>
                <a:arcTo wR="10320" hR="21600" stAng="5451030" swAng="5348970"/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3818880" y="608328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1379160" y="5097600"/>
            <a:ext cx="11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UA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IGH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Box 23"/>
          <p:cNvSpPr/>
          <p:nvPr/>
        </p:nvSpPr>
        <p:spPr>
          <a:xfrm>
            <a:off x="2747520" y="4365720"/>
            <a:ext cx="11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UA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IGH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4259880" y="4378320"/>
            <a:ext cx="11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UA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IGH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5852880" y="4365720"/>
            <a:ext cx="11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UA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IGH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Box 26"/>
          <p:cNvSpPr/>
          <p:nvPr/>
        </p:nvSpPr>
        <p:spPr>
          <a:xfrm>
            <a:off x="7437240" y="4365720"/>
            <a:ext cx="11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UA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IGH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Standardisation - Anthropometry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Content Placeholder 3" descr=""/>
          <p:cNvPicPr/>
          <p:nvPr/>
        </p:nvPicPr>
        <p:blipFill>
          <a:blip r:embed="rId1"/>
          <a:stretch/>
        </p:blipFill>
        <p:spPr>
          <a:xfrm>
            <a:off x="-682560" y="1590840"/>
            <a:ext cx="8229600" cy="455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aviewfromtheright.com/wp-content/uploads/2012/02/black-mother-and-child.jpg"/>
          <p:cNvPicPr/>
          <p:nvPr/>
        </p:nvPicPr>
        <p:blipFill>
          <a:blip r:embed="rId2"/>
          <a:stretch/>
        </p:blipFill>
        <p:spPr>
          <a:xfrm>
            <a:off x="2544840" y="3406680"/>
            <a:ext cx="1760400" cy="1174680"/>
          </a:xfrm>
          <a:prstGeom prst="rect">
            <a:avLst/>
          </a:prstGeom>
          <a:ln w="0">
            <a:noFill/>
          </a:ln>
        </p:spPr>
      </p:pic>
      <p:sp>
        <p:nvSpPr>
          <p:cNvPr id="112" name="Right Brace 5"/>
          <p:cNvSpPr/>
          <p:nvPr/>
        </p:nvSpPr>
        <p:spPr>
          <a:xfrm>
            <a:off x="5672160" y="1557360"/>
            <a:ext cx="1368360" cy="4896000"/>
          </a:xfrm>
          <a:custGeom>
            <a:avLst/>
            <a:gdLst>
              <a:gd name="textAreaLeft" fmla="*/ 0 w 1368360"/>
              <a:gd name="textAreaRight" fmla="*/ 493920 w 1368360"/>
              <a:gd name="textAreaTop" fmla="*/ 35640 h 4896000"/>
              <a:gd name="textAreaBottom" fmla="*/ 486036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2"/>
                  <a:pt x="10800" y="503"/>
                </a:cubicBezTo>
                <a:lnTo>
                  <a:pt x="10800" y="10297"/>
                </a:lnTo>
                <a:cubicBezTo>
                  <a:pt x="10800" y="10549"/>
                  <a:pt x="16200" y="10800"/>
                  <a:pt x="21600" y="10800"/>
                </a:cubicBezTo>
                <a:cubicBezTo>
                  <a:pt x="16200" y="10800"/>
                  <a:pt x="10800" y="11052"/>
                  <a:pt x="10800" y="11303"/>
                </a:cubicBezTo>
                <a:lnTo>
                  <a:pt x="10800" y="21097"/>
                </a:lnTo>
                <a:cubicBezTo>
                  <a:pt x="10800" y="2134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8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7093080" y="3645000"/>
            <a:ext cx="17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X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Haemoglobin - Standardis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63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ke two measurements from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two different finger stick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rom a minimum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3 fellow train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i.e. filing out two microcuvettes from two different blood drops-blood drop #3 and #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the table provided to write down the results and assess the quality of the Hb measu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Haemoglobin – Standardisation form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881360"/>
          <a:ext cx="8569440" cy="4286160"/>
        </p:xfrm>
        <a:graphic>
          <a:graphicData uri="http://schemas.openxmlformats.org/drawingml/2006/table">
            <a:tbl>
              <a:tblPr/>
              <a:tblGrid>
                <a:gridCol w="763560"/>
                <a:gridCol w="423720"/>
                <a:gridCol w="425520"/>
                <a:gridCol w="933480"/>
                <a:gridCol w="932040"/>
                <a:gridCol w="425520"/>
                <a:gridCol w="423720"/>
                <a:gridCol w="763560"/>
                <a:gridCol w="763560"/>
                <a:gridCol w="1357200"/>
                <a:gridCol w="1357560"/>
              </a:tblGrid>
              <a:tr h="514080">
                <a:tc rowSpan="4"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nteer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essing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 good the trainee is at filling up the microcuvet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essing how good the trainee is at finger stic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ge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ge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od drop #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od drop #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- C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tial reasons for difference ≥ (+/-) 0.5 g/d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od drop #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od drop #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5-C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tial reasons for difference≥(+/-) 0.5 g/d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-C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tial reasons for difference ≥ (+/-) 0.5 g/d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6:38:17Z</dcterms:created>
  <dc:creator>UNHCR</dc:creator>
  <dc:description/>
  <dc:language>en-US</dc:language>
  <cp:lastModifiedBy>Melody Tondeur</cp:lastModifiedBy>
  <dcterms:modified xsi:type="dcterms:W3CDTF">2013-04-17T12:36:37Z</dcterms:modified>
  <cp:revision>41</cp:revision>
  <dc:subject/>
  <dc:title>Kakuma Nutrition Survey November-December 2011</dc:title>
</cp:coreProperties>
</file>